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C40A-3F19-4BEB-BF47-681EEAB139A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АНАЛИЗ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A567-53FC-4000-BE26-ADA969F312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анализ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ый подход: определяет степень соответствия действующих правовых норм требованиям экономической эффек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ый подход: предполагает внесение изменений в правовые нормы, основываясь на выводах экономической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AB27-B855-4755-A3B2-C6A2E36613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тилитаризм = максимизация общественного счаст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благосостояния          чтобы выбрать наилучшую для общества альтернативу, нужно определить полезность его членов при различных альтернатив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кардинал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межличностного сравнения полез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C8BE-05ED-4454-8E62-D3697FF121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эффективности по Парето: если закон или судебное решение приведет к улучшению положения хотя бы одного индивида, не ухудшая положения других, этот закон (судебное решение) – улучшение по Паре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B41E-D97D-41AE-A230-30DA6C6DBE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ритерий эффективности по Паре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чтения индивидов рассматриваются как заранее заданные и неизме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эффективности по Парето не принимает во внимание справедливость распределения до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уют какие-либо пределы рыночных отношений: моральные нормы не имеют зна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D914-4966-4A6D-AAB2-852697B6E9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ритерий Калдора – Хикса (потенциальное улучшение по Парето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чтительнее состоян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если те, кто выигрывает при переходе о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огут полностью компенсировать убытки тех, кто проигрывает при этом переходе, и все равно остаться в выигры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404C-A466-4390-BBD5-37BF526770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ритерий максимизации богатства (Р. Познер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007B-3932-4E36-A54B-249DAFD3C6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Критерий Ролз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лагосостояние общества оценивается по благосостоянию самого слабого его член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благосостояние, как произведение полез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едливое общественное устройство – такое, которое выбрали бы индивиды, если бы на них не оказывали влияния их эгоистические интере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60FE-9EAA-456C-8FA8-D41D4057EA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ритерий утилитаризма и критерий Рол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91BE-116C-4946-AE54-CDA0257CA7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Что такое «справедливость»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едливость – понятие о должном, соответствующее определённым представлениям о сущности человека и его неотъемлемых правах.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СЭ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посвящаю свою жизнь войне за справедливость в этом жестоком мире. Только справедливость означает свободу, равенство, братство.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Zetov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едливости нет. Но если принять это как аксиому и перестать её добиваться, то будет гораздо хуже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Orom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7625-E1C0-43C5-8BF2-258007F1CF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Что такое «справедливость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ветственность за неумышленное причинение ущерб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необходимость компенсации ущерба жертве несчастного случ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оговорное пра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незыблемость обещаний и компенсация за нарушение обяза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головное пра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идея воздающего правосуд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867C-6242-42AD-A1D2-36B31FE1DD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бовцев В.Л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аво и экономическая теор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М.: Инфра-М.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цова М.И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кономика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М.: Издательский дом ГУ-ВШЭ. 20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vell, Steven. 2004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Foundations of Economic Analysis of Law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Cambridge (MA): Harvard University Pr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29F0-CBDC-4194-B9F5-103C1353E1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Что такое «справедливость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цессуальная справедлив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следование ранее установленным правилам, информация о которых предоставлена индивидам, а также возможность участия индивидов в выработке и установлении этих прави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1B7B-ACFF-4525-B963-F1E31897A1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спределительная справедлив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3CBB-D36D-425A-9E8F-CBB8E84CC1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Распределительная справедлив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доход не может быть перераспределен без издержек, то между справедливостью и эффективностью может возникнуть конфли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е этого конфликта зависит от распределительных последствий эффективного решения и от того, какое распределение доходов считается справедливым в этом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чтительнее такое распределение дохода, которое приведет к максимизации общественного богатств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3B40-9644-48DA-AB41-7D37584E36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лияние распределения богатства на общественное благосостоя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ьная полезность денег для бедных больше, чем для богатых, поэтому перераспределение может увеличить общественное благосостоя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доходов влияет на распределение полезности, поэтому общественное благосостояние может зависеть непосредственно от того, насколько равномерно распределены доходы в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339D-D298-4049-AC83-0D9591A3AB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лияние распределения богатства на общественное благососто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доходов может влиять на общественное благосостояние, так как индивидуальная полезность может зависеть от распределения доходов во всем обществе, отражая чувство альтруизма и симпатии данного индиви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7A6F-7E53-4DA3-9DC8-8BEE7AE1FD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перераспределения богат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 и трансфе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распределение с помощью правового регу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5587-F049-4CEF-9F56-0F5A9C3F72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алоговая система призвана выравнивать доходы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ежду членами общества, но оптимальное, с точки зрения максимизации общественного благосостояния распределение доходов невозмож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индивидов подрываются стимулы к производите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е издержки функционирования налогов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212E-0E16-458D-9ABA-2C916E654A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авовое регулирование, как система перераспределения, более эффективно, чем налоговая система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чему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6911-086E-4469-8BC7-983B0DAF3C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бовцев В.Л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аво и экономическая теор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М.: Инфра-М. 2005. Гл. 1,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цова М.И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кономика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М.: Издательский дом ГУ-ВШЭ. 2007. Гл.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vell, Steven. 2004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Foundations of Economic Analysis of Law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 Cambridge (MA): Harvard University Press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. 28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. ‘Income Distributional Equity and the Law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A84E-2AC8-4340-81F0-95ED6AACA9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анализ права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 and Economics)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законодательных и судебных решений экономическими мето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7E42-CB2A-44EF-A7D2-FC85591341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ase, Ronald H. 196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‘The Problem of Social Cost’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Journal of Law and Economic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(1):1-4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abresi, Guido. 1961. ‘Some Thoughts on Risk Distribution and the Law of Torts’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Yale Law Journa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0(4):499-55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ker, Gary S. 1968. ‘Crime and Punishment: An Economic Approach’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Journal of Political Econom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6(2):169-21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6968-2518-466E-B91C-639B066A01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новные предпосы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экономическим подходом к праву, индивиды – рациональные экономические агенты, максимизирующие свою полез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подход к праву имеет дело с предельными величи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подход к праву уделяет основное внимание созданию стимуло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 ant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C263-65F5-4532-A850-D9B35164FB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Основные предпосыл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нормы = система неявных цен, которая создает для индивидов соответствующие стиму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E679-A9BF-48FC-AF4F-C2E34ADDE9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1282-8BC7-49FC-AC67-02DC5C51F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61FF-2CD1-403D-8641-BDC69F82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77FD-B57B-4C7C-9DAA-FAA659894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AF00-9635-4298-84BB-9DEFA2FA7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E75D-A294-4D66-B0FE-E323D3B7C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FF2D-5476-4DEB-AF8B-7BA666B5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1513-AA42-400D-8B1C-178F4AE1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1591-E2B4-4079-98CE-173D086B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489D-362C-482C-81EA-1169F4C1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3ADC-FE8D-4862-A614-E487449A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ECC7-0402-4BDA-B291-BBD5D705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491D-3880-427B-BB16-E6D903D7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7F36-6674-4A0B-958D-D7F84B57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910A-C296-46AF-B924-27F1E50F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C50A-B39A-4434-B0EE-F5F1D2B6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77EB-304F-452F-A5E0-2B971E5A0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CE75-C93B-45B0-8BAD-809F79E4F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F104B7-A1B9-4189-AEF0-3C7086BAB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3B5807-3988-435E-9CAE-7AC33B90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AB7651-C827-4803-A649-CB5BB75C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C4E0C1-3646-431B-B26E-BD64466F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483AFF-53FF-48CB-930E-8BC266D9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0DF9-96F2-4E31-B1F2-2EF34781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DA7310-ABEE-48FF-8039-B5881DCB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0C2F2E-BF83-465E-A24D-AB2CA4B4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4B45C9-69BD-433A-A777-DB2F2E58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04EA0F-B49A-4E2E-B5E0-77B238A2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53B151-FE42-49CD-9708-5E2B8D2A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C54BE1-CD65-4572-A3C9-282EA0AC1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67ABAD-02F2-432B-9789-4004DB93C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CE532-D695-450F-8075-1495A94D1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827A8-65A8-49A8-8931-497FDCD4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4E0D9-06AE-485A-9B37-40D9BAD6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DA6F-75BD-4218-B87E-F4CB9136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3CE40-A931-44CC-922F-5080A3B2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B4267-3466-4622-B38D-531FD916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D32AC-82F2-4195-BE51-997D8D52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87FE1-D732-4039-AB41-BDED770B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BBF48-B13A-4B9C-8DBF-C6364517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0CA8A-7DC2-43C8-BAA6-FFA0D0B1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F35B2-B084-428A-BE88-AE4B293C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DC80D-D222-4F4A-BC70-578DD3ACE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FD583-A287-48E3-9476-5AAF0640C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415C-3BBA-435C-B359-6391F6FA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434C-3E2F-4A4B-9926-2CDC8F02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E4CD-114B-4679-A7F4-5CEADD61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E7EB-0404-421A-82C0-45EFDBF1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C9A0-7D53-4EA2-BC4E-8B2AD633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C48B-AC21-4A4A-86F4-6F7501BA2888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322E-9C40-4CE6-A033-BB19F93E9514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83AE-C1D8-40FA-91E3-A298B511C30A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5D62-40B3-4909-8B61-F26FAB4EF970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C90B-661A-468D-8F2B-E746CEB7F771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A2FD-9BF0-497D-BC9B-A6F308BAFF8E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5DC4-7FEC-4081-AEDE-1790E06A34DA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6904-C743-471B-9113-E1549F031D86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ЭКОНОМИЧЕСКИЙ АНАЛИЗ ПРАВА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541008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3"/>
          <p:cNvSpPr/>
          <p:nvPr/>
        </p:nvSpPr>
        <p:spPr>
          <a:xfrm>
            <a:off x="1143000" y="1643040"/>
            <a:ext cx="6500880" cy="64296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Экономический анализ пра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4"/>
          <p:cNvSpPr/>
          <p:nvPr/>
        </p:nvSpPr>
        <p:spPr>
          <a:xfrm>
            <a:off x="285840" y="3097080"/>
            <a:ext cx="4143240" cy="3618000"/>
          </a:xfrm>
          <a:prstGeom prst="rect">
            <a:avLst/>
          </a:prstGeom>
          <a:solidFill>
            <a:srgbClr val="a04da3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Позитивный подход: определяет степень соответствия действующих правовых норм требованиям экономической эффектив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5"/>
          <p:cNvSpPr/>
          <p:nvPr/>
        </p:nvSpPr>
        <p:spPr>
          <a:xfrm>
            <a:off x="4714920" y="3092400"/>
            <a:ext cx="4143240" cy="3622680"/>
          </a:xfrm>
          <a:prstGeom prst="rect">
            <a:avLst/>
          </a:prstGeom>
          <a:solidFill>
            <a:srgbClr val="a04da3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Нормативный подход: предполагает внесение изменений в правовые нормы, основываясь на выводах экономической теор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Стрелка вниз 6"/>
          <p:cNvSpPr/>
          <p:nvPr/>
        </p:nvSpPr>
        <p:spPr>
          <a:xfrm>
            <a:off x="2143080" y="2286000"/>
            <a:ext cx="500040" cy="78588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Стрелка вниз 8"/>
          <p:cNvSpPr/>
          <p:nvPr/>
        </p:nvSpPr>
        <p:spPr>
          <a:xfrm>
            <a:off x="6500880" y="2286000"/>
            <a:ext cx="500040" cy="78588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Утилитаризм = максимизация общественного счасть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нцип благосостояния          чтобы выбрать наилучшую для общества альтернативу, нужно определить полезность его членов при различных альтернативах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нцип кардинализм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зможность межличностного сравнения полезносте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60" name="Прямая со стрелкой 4"/>
          <p:cNvCxnSpPr/>
          <p:nvPr/>
        </p:nvCxnSpPr>
        <p:spPr>
          <a:xfrm>
            <a:off x="4785840" y="3857760"/>
            <a:ext cx="786600" cy="216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1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14200" y="1571760"/>
            <a:ext cx="8715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Овал 5"/>
          <p:cNvSpPr/>
          <p:nvPr/>
        </p:nvSpPr>
        <p:spPr>
          <a:xfrm>
            <a:off x="214200" y="2571840"/>
            <a:ext cx="8643960" cy="4000320"/>
          </a:xfrm>
          <a:prstGeom prst="ellipse">
            <a:avLst/>
          </a:prstGeom>
          <a:solidFill>
            <a:srgbClr val="a04da3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Критерий эффективности по Парето: если закон или судебное решение приведет к улучшению положения хотя бы одного индивида, не ухудшая положения других, этот закон (судебное решение) – улучшение по Паре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Критерий эффективности по Парето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дпочтения индивидов рассматриваются как заранее заданные и неизменны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нцип эффективности по Парето не принимает во внимание справедливость распределения доход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сутствуют какие-либо пределы рыночных отношений: моральные нормы не имеют значени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Критерий Калдора – Хикса (потенциальное улучшение по Парето)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Состояние </a:t>
            </a: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А 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предпочтительнее состояния </a:t>
            </a: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В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, если те, кто выигрывает при переходе от </a:t>
            </a: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В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 к </a:t>
            </a: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А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 могут полностью компенсировать убытки тех, кто проигрывает при этом переходе, и все равно остаться в выигрыше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Критерий максимизации богатства (Р. Познер)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Скругленный прямоугольник 3"/>
          <p:cNvSpPr/>
          <p:nvPr/>
        </p:nvSpPr>
        <p:spPr>
          <a:xfrm>
            <a:off x="285840" y="3786120"/>
            <a:ext cx="8643960" cy="2714760"/>
          </a:xfrm>
          <a:prstGeom prst="roundRect">
            <a:avLst>
              <a:gd name="adj" fmla="val 16667"/>
            </a:avLst>
          </a:prstGeom>
          <a:solidFill>
            <a:srgbClr val="438086">
              <a:alpha val="46000"/>
            </a:srgbClr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Если блага находятся в руках людей, готовых предложить за них максимальную цену, то общество достигнет цели максимизации совокупного богат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ижнього колонтитула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Критерий Ролза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Благосостояние общества оценивается по благосостоянию самого слабого его члена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вокупное благосостояние, как произведение полезносте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праведливое общественное устройство – такое, которое выбрали бы индивиды, если бы на них не оказывали влияния их эгоистические интерес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Критерий утилитаризма и критерий Ролза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214200" y="3071880"/>
          <a:ext cx="8715600" cy="3627360"/>
        </p:xfrm>
        <a:graphic>
          <a:graphicData uri="http://schemas.openxmlformats.org/drawingml/2006/table">
            <a:tbl>
              <a:tblPr/>
              <a:tblGrid>
                <a:gridCol w="2905200"/>
                <a:gridCol w="2905200"/>
                <a:gridCol w="2905200"/>
              </a:tblGrid>
              <a:tr h="51840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остояние об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а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ж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Эсмераль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тилитариз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ол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5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4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  <p:sp>
        <p:nvSpPr>
          <p:cNvPr id="282" name="Місце для нижнього колонтитула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Что такое «справедливость»?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праведливость – понятие о должном, соответствующее определённым представлениям о сущности человека и его неотъемлемых правах. (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БСЭ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Я посвящаю свою жизнь войне за справедливость в этом жестоком мире. Только справедливость означает свободу, равенство, братство. (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Zetov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праведливости нет. Но если принять это как аксиому и перестать её добиваться, то будет гораздо хуже.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Orom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Что такое «справедливость»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Ответственность за неумышленное причинение ущерба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: необходимость компенсации ущерба жертве несчастного случая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Договорное право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: незыблемость обещаний и компенсация за нарушение обязательств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Уголовное право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: идея воздающего правосудия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Литерату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Тамбовцев В.Л.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Право и экономическая теория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 М.: Инфра-М. 2005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динцова М.И.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Экономика права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 М.: Издательский дом ГУ-ВШЭ. 2007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havell, Steven. 2004.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Foundations of Economic Analysis of Law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. Cambridge (MA): Harvard University Press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Что такое «справедливость»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Процессуальная справедливость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: следование ранее установленным правилам, информация о которых предоставлена индивидам, а также возможность участия индивидов в выработке и установлении этих правил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Распределительная справедливос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4" name="Скругленный прямоугольник 3"/>
          <p:cNvSpPr/>
          <p:nvPr/>
        </p:nvSpPr>
        <p:spPr>
          <a:xfrm>
            <a:off x="214200" y="2500200"/>
            <a:ext cx="8643960" cy="571680"/>
          </a:xfrm>
          <a:prstGeom prst="roundRect">
            <a:avLst>
              <a:gd name="adj" fmla="val 16667"/>
            </a:avLst>
          </a:prstGeom>
          <a:solidFill>
            <a:srgbClr val="438086">
              <a:alpha val="46000"/>
            </a:srgbClr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У Пети есть 65 у.е., у Васи – 35 у.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Скругленный прямоугольник 4"/>
          <p:cNvSpPr/>
          <p:nvPr/>
        </p:nvSpPr>
        <p:spPr>
          <a:xfrm>
            <a:off x="214200" y="3214800"/>
            <a:ext cx="8643960" cy="571320"/>
          </a:xfrm>
          <a:prstGeom prst="roundRect">
            <a:avLst>
              <a:gd name="adj" fmla="val 16667"/>
            </a:avLst>
          </a:prstGeom>
          <a:solidFill>
            <a:srgbClr val="83bcc1">
              <a:alpha val="46000"/>
            </a:srgbClr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Строительство дамбы стоит 30 у.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Скругленный прямоугольник 5"/>
          <p:cNvSpPr/>
          <p:nvPr/>
        </p:nvSpPr>
        <p:spPr>
          <a:xfrm>
            <a:off x="214200" y="3929040"/>
            <a:ext cx="8643960" cy="571680"/>
          </a:xfrm>
          <a:prstGeom prst="roundRect">
            <a:avLst>
              <a:gd name="adj" fmla="val 16667"/>
            </a:avLst>
          </a:prstGeom>
          <a:solidFill>
            <a:srgbClr val="add2d6">
              <a:alpha val="46000"/>
            </a:srgbClr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Строительство дамбы принесет 40 у.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Скругленный прямоугольник 6"/>
          <p:cNvSpPr/>
          <p:nvPr/>
        </p:nvSpPr>
        <p:spPr>
          <a:xfrm>
            <a:off x="214200" y="4643280"/>
            <a:ext cx="8643960" cy="571680"/>
          </a:xfrm>
          <a:prstGeom prst="roundRect">
            <a:avLst>
              <a:gd name="adj" fmla="val 16667"/>
            </a:avLst>
          </a:prstGeom>
          <a:solidFill>
            <a:srgbClr val="d6e9ea">
              <a:alpha val="46000"/>
            </a:srgbClr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Все издержки строительства несет Вас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Скругленный прямоугольник 7"/>
          <p:cNvSpPr/>
          <p:nvPr/>
        </p:nvSpPr>
        <p:spPr>
          <a:xfrm>
            <a:off x="214200" y="5572080"/>
            <a:ext cx="8643960" cy="928800"/>
          </a:xfrm>
          <a:prstGeom prst="roundRect">
            <a:avLst>
              <a:gd name="adj" fmla="val 16667"/>
            </a:avLst>
          </a:prstGeom>
          <a:solidFill>
            <a:srgbClr val="3e3f68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Нужно ли строить дамб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ижнього колонтитула 8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Распределительная справедлив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Если доход не может быть перераспределен без издержек, то между справедливостью и эффективностью может возникнуть конфликт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зникновение этого конфликта зависит от распределительных последствий эффективного решения и от того, какое распределение доходов считается справедливым в этом обществ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дпочтительнее такое распределение дохода, которое приведет к максимизации общественного богатств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Влияние распределения богатства на общественное благосостояние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дельная полезность денег для бедных больше, чем для богатых, поэтому перераспределение может увеличить общественное благосостоян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спределение доходов влияет на распределение полезности, поэтому общественное благосостояние может зависеть непосредственно от того, насколько равномерно распределены доходы в обществ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Arial"/>
              </a:rPr>
              <a:t>Влияние распределения богатства на общественное благосостояние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Georgia"/>
              </a:rPr>
              <a:t>Распределение доходов может влиять на общественное благосостояние, так как индивидуальная полезность может зависеть от распределения доходов во всем обществе, отражая чувство альтруизма и симпатии данного индивида.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Прямоугольник 3"/>
          <p:cNvSpPr/>
          <p:nvPr/>
        </p:nvSpPr>
        <p:spPr>
          <a:xfrm>
            <a:off x="1143000" y="1643040"/>
            <a:ext cx="6500880" cy="928800"/>
          </a:xfrm>
          <a:prstGeom prst="rect">
            <a:avLst/>
          </a:prstGeom>
          <a:solidFill>
            <a:srgbClr val="62331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Способы перераспределения богат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4"/>
          <p:cNvSpPr/>
          <p:nvPr/>
        </p:nvSpPr>
        <p:spPr>
          <a:xfrm>
            <a:off x="285840" y="3811680"/>
            <a:ext cx="4143240" cy="2117520"/>
          </a:xfrm>
          <a:prstGeom prst="rect">
            <a:avLst/>
          </a:prstGeom>
          <a:solidFill>
            <a:srgbClr val="c4652d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Налоги и трансфер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5"/>
          <p:cNvSpPr/>
          <p:nvPr/>
        </p:nvSpPr>
        <p:spPr>
          <a:xfrm>
            <a:off x="4714920" y="3786120"/>
            <a:ext cx="4143240" cy="2143080"/>
          </a:xfrm>
          <a:prstGeom prst="rect">
            <a:avLst/>
          </a:prstGeom>
          <a:solidFill>
            <a:srgbClr val="c4652d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Перераспределение с помощью правового регул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Стрелка вниз 6"/>
          <p:cNvSpPr/>
          <p:nvPr/>
        </p:nvSpPr>
        <p:spPr>
          <a:xfrm>
            <a:off x="2143080" y="2571840"/>
            <a:ext cx="500040" cy="121428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62331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Стрелка вниз 8"/>
          <p:cNvSpPr/>
          <p:nvPr/>
        </p:nvSpPr>
        <p:spPr>
          <a:xfrm>
            <a:off x="6500880" y="2571840"/>
            <a:ext cx="500040" cy="121428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62331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2960" indent="-5335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алоговая система призвана выравнивать доходы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ежду членами общества, но оптимальное, с точки зрения максимизации общественного благосостояния распределение доходов невозможно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У индивидов подрываются стимулы к производительной деятельности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Административные издержки функционирования налоговой системы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0" y="1628640"/>
            <a:ext cx="9144000" cy="51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2960" indent="-5335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овое регулирование, как система перераспределения, более эффективно, чем налоговая система??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чему??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8" descr="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7"/>
          <p:cNvSpPr/>
          <p:nvPr/>
        </p:nvSpPr>
        <p:spPr>
          <a:xfrm>
            <a:off x="1357200" y="857160"/>
            <a:ext cx="6572520" cy="114300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http://www.nber.org/paper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9"/>
          <p:cNvSpPr/>
          <p:nvPr/>
        </p:nvSpPr>
        <p:spPr>
          <a:xfrm>
            <a:off x="1357200" y="3214800"/>
            <a:ext cx="2500560" cy="78588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Shav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Рисунок 4" descr="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6215040"/>
          </a:xfrm>
          <a:prstGeom prst="rect">
            <a:avLst/>
          </a:prstGeom>
          <a:ln w="0">
            <a:noFill/>
          </a:ln>
        </p:spPr>
      </p:pic>
      <p:sp>
        <p:nvSpPr>
          <p:cNvPr id="232" name="Овал 5"/>
          <p:cNvSpPr/>
          <p:nvPr/>
        </p:nvSpPr>
        <p:spPr>
          <a:xfrm>
            <a:off x="1357200" y="4286160"/>
            <a:ext cx="571680" cy="1285920"/>
          </a:xfrm>
          <a:prstGeom prst="ellipse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6"/>
          <p:cNvSpPr/>
          <p:nvPr/>
        </p:nvSpPr>
        <p:spPr>
          <a:xfrm>
            <a:off x="2143080" y="3786120"/>
            <a:ext cx="5429160" cy="57168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w9694-w97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350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Литература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Тамбовцев В.Л.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Право и экономическая теория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 М.: Инфра-М. 2005. Гл. 1,2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динцова М.И.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Экономика права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 М.: Издательский дом ГУ-ВШЭ. 2007. Гл. 1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havell, Steven. 2004.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Foundations of Economic Analysis of Law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.  Cambridge (MA): Harvard University Press.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h. 28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. ‘Income Distributional Equity and the Law’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Экономический анализ права (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Law and Economics) –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анализ законодательных и судебных решений экономическими методами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Місце для нижнього колонтитула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ase, Ronald H. 1960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‘The Problem of Social Cost’.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Journal of Law and Economics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3(1):1-44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alabresi, Guido. 1961. ‘Some Thoughts on Risk Distribution and the Law of Torts’.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Yale Law Journal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70(4):499-553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ecker, Gary S. 1968. ‘Crime and Punishment: An Economic Approach’.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Journal of Political Economy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76(2):169-217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сновные предпосылк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 соответствии с экономическим подходом к праву, индивиды – рациональные экономические агенты, максимизирующие свою полезность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Экономический подход к праву имеет дело с предельными величинами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Экономический подход к праву уделяет основное внимание созданию стимулов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x ante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сновные предпосылк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Овал 3"/>
          <p:cNvSpPr/>
          <p:nvPr/>
        </p:nvSpPr>
        <p:spPr>
          <a:xfrm>
            <a:off x="714240" y="2857680"/>
            <a:ext cx="7715520" cy="3071520"/>
          </a:xfrm>
          <a:prstGeom prst="ellipse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Правовые нормы = система неявных цен, которая создает для индивидов соответствующие стиму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17:02:24Z</dcterms:created>
  <dc:creator>www.PHILka.RU</dc:creator>
  <dc:description/>
  <dc:language>en-US</dc:language>
  <cp:lastModifiedBy>LEGION</cp:lastModifiedBy>
  <dcterms:modified xsi:type="dcterms:W3CDTF">2015-01-28T08:21:50Z</dcterms:modified>
  <cp:revision>63</cp:revision>
  <dc:subject/>
  <dc:title>ЭКОНОМИЧЕСКИЙ АНАЛИЗ ПРАВА</dc:title>
</cp:coreProperties>
</file>